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AEAD-2C14-412B-B244-E4B5F3D9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787A-2D4C-4634-A55A-19ADA1D3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F1B-05FA-49CA-82AC-FCD05DA6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60D5-F543-4D63-8EE1-20477C94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A922-0605-436B-99F7-B46B9EEA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F5F2-B82C-45D4-8E2C-24458ECB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8B78-E61E-4B50-9B7C-AEE2DD0C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E8BA-03B9-40DF-8461-3FACC1CD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C4EF-6E17-489A-8E9B-2938EB95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DF19-AFAC-4977-902D-AC446ABC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A5CE-83FA-43F0-B4E7-35FEEA6E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DBC4-EEF9-4BB0-BD25-26E7ED6F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21D7-D6F7-4C31-A0C2-3BD0FEBA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35AB-AA74-4A0A-A36A-4D6E041C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8DB2-EA50-4170-99E5-138B21F3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1B82-6F85-4111-86F0-B5212AF1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1AA7-DF34-4094-BD21-26127502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117-9A7F-43FA-8461-B23CA332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EDCD-1030-4996-9CCA-082FC4E6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9727-BA3C-4422-8CFE-6F640903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A6CB-E2CD-453A-987A-071F0E27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561F-340D-4EC8-BDED-024053E3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1390-6F06-4E2D-937C-3B414B49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069-A43A-4D6B-9A2C-8EBF02D6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2A5C-CFCF-4444-907F-07746332B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D776-C282-4B25-A62E-E75446BACE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Context Clues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Grade Rea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A plant that grows on tree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the trees had fuzzy green moss all over them” tell t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moss is a plant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Jane threw her </a:t>
            </a:r>
            <a:r>
              <a:rPr b="1" lang="en-US" sz="4800" spc="-1" strike="noStrike" u="sng">
                <a:solidFill>
                  <a:srgbClr val="feec94"/>
                </a:solidFill>
                <a:uFillTx/>
                <a:latin typeface="Times New Roman"/>
              </a:rPr>
              <a:t>lariat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 to rope the baby cow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laria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is 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cowbo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ong rope with a loop on on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 long rope with a loop on one en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to rope the baby cow” tell that 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lariat is a long rope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dogs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nipped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at the cows’ heels with their teeth to move them along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2590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ipped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me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rk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napp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snapped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nipped at the cows’ heels with their teeth” tell t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nipped mean snapp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e mother cows looked over their 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calve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to make sure they were safe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alve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ung co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ai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young cow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mother cows looked over their calves” tell t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calves are young cow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e 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statement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showed us how much money we had in the bank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tatem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redit car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piece of pap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A piece of paper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showed how much money we had in the bank” tell t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 statement is a piece of paper with information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member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e the other word clues in the sentences to figure out what a word mea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lues in a sentence can tell you the meaning of a new word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ap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 a liquid that moves inside a tree and brings food to the leaves and branch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e sentence above, the words “a liquid that moves inside a tree and brings food to the leaves and branches” tell you w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ap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mea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0592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We took a walk in the </a:t>
            </a:r>
            <a:r>
              <a:rPr b="1" lang="en-US" sz="4800" spc="-1" strike="noStrike" u="sng">
                <a:solidFill>
                  <a:srgbClr val="feec94"/>
                </a:solidFill>
                <a:uFillTx/>
                <a:latin typeface="Times New Roman"/>
              </a:rPr>
              <a:t>forest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. There were trees as far as we could see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3124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there were trees as far as we could see” tell us t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 forest is a place with many tre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059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ad showed us an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ancient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redwood tree. He said it was very, very old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ds “very, very old” tell us that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nci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means very, very ol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Now you try one!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oldest tree was thre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thousan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years old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Thousan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ig numbe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mall numb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A big number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words “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ree thousand years old”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tell us tha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ousand means a big number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In the </a:t>
            </a:r>
            <a:r>
              <a:rPr b="1" lang="en-US" sz="4800" spc="-1" strike="noStrike" u="sng">
                <a:solidFill>
                  <a:srgbClr val="feec94"/>
                </a:solidFill>
                <a:uFillTx/>
                <a:latin typeface="Times New Roman"/>
              </a:rPr>
              <a:t>swamp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, the water came up to our knees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wamp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rocky plac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wet pla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A wet plac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words “the water came up to our knees” tell us tha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a swamp is a wet pla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Some of the trees had fuzzy green </a:t>
            </a:r>
            <a:r>
              <a:rPr b="1" lang="en-US" sz="4800" spc="-1" strike="noStrike" u="sng">
                <a:solidFill>
                  <a:srgbClr val="feec94"/>
                </a:solidFill>
                <a:uFillTx/>
                <a:latin typeface="Times New Roman"/>
              </a:rPr>
              <a:t>moss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all over them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Mos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ig animal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plant that grows on tre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3:33:35Z</dcterms:created>
  <dc:creator>cooperb</dc:creator>
  <dc:description/>
  <dc:language>en-US</dc:language>
  <cp:lastModifiedBy>teacher</cp:lastModifiedBy>
  <dcterms:modified xsi:type="dcterms:W3CDTF">2011-01-07T22:15:54Z</dcterms:modified>
  <cp:revision>3</cp:revision>
  <dc:subject/>
  <dc:title>Context Clues</dc:title>
</cp:coreProperties>
</file>